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7687-CED4-4F09-ADE9-0F718BF8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59BD-D884-43DC-ADB7-8FC7F8F6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12AB-5F16-41B3-A6AB-4C12D20D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87D3-B7F1-4660-A68A-A26BF1EC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305B-8BEB-4029-921A-D611B89DB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D30A-F939-413F-A8D8-B0C85239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8EB5-B25A-49DB-9A7F-12880ED1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E67E-05F6-43AD-9A35-F6246100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9F03-6DD2-43CC-91E2-5CA8774F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52A6-FF77-4C56-B6AC-7CE72CE5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5342-1F88-470C-AFD2-EC7EBD24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3966-E45A-44DD-A5A2-074C30A2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30FC-9B1E-463B-B94A-5F9AF6AF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9350-246B-4A5E-B900-9A339BD3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7A14-E880-4368-87D6-7FA42379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6AA5-AFC2-4241-A65B-637527192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DEF3-428E-4D75-87D9-BC261DE3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0419-B52C-4693-820D-03C20CD1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4A05-B145-40A1-A031-64DC2FEB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496A-234D-4800-BE72-CFE420BE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435A-10F1-4607-87C2-F4BA3D39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60C9-EE99-4BA5-9CAC-97D1B29D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8C49-9B38-43B4-AD60-96C5FAC6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A748-6003-4518-91DA-2A8E1B2F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FCB8-2E89-4077-88A9-AF39445FA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E0D2-4BFE-4873-BF9F-7B39AFB805AD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rriet Tubman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Genr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ogra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y of person’s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ld by someone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rriet Tubman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ocabulary Instruc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438280"/>
            <a:ext cx="7772400" cy="36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n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have an idea or  plan of what you are going to do, you have an inten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riet Tubman’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en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to become a free sl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riet’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n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to escape slavery even if she had to go al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rriet Tubman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ocabulary Instruc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n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ntio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rriet Tubman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ocabulary Instruc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uc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uct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do something, you do not really want to do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laves we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ucta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scape because it was dangerou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riet was no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ucta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sca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rriet Tubman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ocabulary Instruc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slave wanted t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lu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trollers,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 mig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k away from the plantation in the early mo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st slave practices in the mar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at night and sleep undercover during the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 like a slave by working in the fiel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rriet Tubman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ocabulary Instruc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slave w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uct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escape,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 mig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er have an intention to esca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listen to people who try to persuade the slave to le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ieve that escaping would be dangero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clever plan for escaping into freed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225000" y="6734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rriet Tubman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ocabulary Instruc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slave had an intention to be free, the slave migh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others that trying to escape the plantation would be foo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and listen carefully to learn everything about free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 bits of food and clo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pt the his/her life as a sl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rriet Tubman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eview of Passag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ajor ev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ape with broth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ape al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rriet Tubman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mprehension Skill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rriet Tubman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tell Sequenc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ape with br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s to wo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an offers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ls s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rriet Tubman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quenc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ks to wo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an offers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ow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owner sells s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riet decides to e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uades brothers to join 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d brothers into the w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thers were afr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thers want to q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thers force Harriet  to q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riet decides to go a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rriet Tubman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Genr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 of BIG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rriet Tubman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genr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 of B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rriet Tubman: Conductor on the Underground Railr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ion of B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Glory over Every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rriet Tubman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ground Knowledg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533760" y="2017800"/>
            <a:ext cx="3068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rriet Tubma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22840" y="2017800"/>
            <a:ext cx="2490480" cy="4114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136080" y="646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rriet Tubman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ackground knowledg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17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happen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rriet Tubman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ackground Knowledg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17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yland, 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happenin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Free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Slave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Free when reached fre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Underground Railr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rriet Tubman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nunciation of word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ad by part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mediate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luct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su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din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os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rriet Tubman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ocabulary Instruction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ud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er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u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meone, you avoid them or escape from them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unaway slav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ud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trollers who were hunting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vic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ud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lice for 10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laying hide and seek, Jo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ud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 other players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04:47:12Z</dcterms:created>
  <dc:creator>Archer Anita</dc:creator>
  <dc:description/>
  <dc:language>en-US</dc:language>
  <cp:lastModifiedBy>Archer Anita</cp:lastModifiedBy>
  <dcterms:modified xsi:type="dcterms:W3CDTF">2009-01-12T06:01:39Z</dcterms:modified>
  <cp:revision>1</cp:revision>
  <dc:subject/>
  <dc:title>Harriet Tubman    Genre</dc:title>
</cp:coreProperties>
</file>